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96E7-4CDD-4642-8824-0DD077DC8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DC9A-4AE9-46BE-8B0C-22B8A2C17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28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76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28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76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216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2164AB9F-B5EC-44E8-ACB5-8E3CABC47CA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exible Budgets, Variances, and Management Control: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 costs are significant for most organiz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variable overhead is allocated to products and services using a budgeted variable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efficiency and spending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fixed overhead is allocated to products and services using a budgeted fixed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spending and production volume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7 - 2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units of the allocation base - budgeted units of the allocation base) x budgeted variable overhead allocation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,500 - 4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5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variable overhead rate - budgeted variable overhead rate) x  actual units of the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9.00 - $30.00) x 4,5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5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895480"/>
            <a:ext cx="35812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0,5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752480"/>
            <a:ext cx="2514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ending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5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5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26668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8440" y="2314080"/>
            <a:ext cx="18687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ed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fixed overhead costs – Static budgeted fixed overhea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85,000 - $276,000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9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fixed overhead - [ (Budgeted fixed overhead allocation base allowed for actual output units) x (Budgeted fixed overhead rate)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[ (0.40 x 10,000) x $57.50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$23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3 - 2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8640" y="1219320"/>
            <a:ext cx="3421080" cy="42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9 - 29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5200" y="1219320"/>
            <a:ext cx="28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057400"/>
            <a:ext cx="152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t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 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34340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lloc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7339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43200" y="251424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733920"/>
            <a:ext cx="1676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971800"/>
            <a:ext cx="15238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943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24852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6:33:04Z</dcterms:created>
  <dc:creator>User</dc:creator>
  <dc:description/>
  <dc:language>en-US</dc:language>
  <cp:lastModifiedBy>John Moore</cp:lastModifiedBy>
  <cp:lastPrinted>1999-06-03T17:08:38Z</cp:lastPrinted>
  <dcterms:modified xsi:type="dcterms:W3CDTF">2003-03-22T13:12:46Z</dcterms:modified>
  <cp:revision>8</cp:revision>
  <dc:subject/>
  <dc:title>Overhead Cost Variances</dc:title>
</cp:coreProperties>
</file>